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400-294C-4A7F-B672-454C5959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3F5-0229-4820-BB4E-ACBEFB58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C9D-7CE2-4C63-AD6C-BFCE9F62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551-D0B0-4F65-9C2D-3F2171C8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36F-B19F-404B-954F-BB0B13AD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0CE-BBB2-4989-B341-74F7D183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DC7-F314-4762-B28E-2B00E9DB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9E8-1797-4F4C-84E4-1989213F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F10-5AE2-4D58-AFF6-A3A311C3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9A0-CE72-453A-AF24-F24D926C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549-64E3-482E-9E97-37110A7D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EE8-C710-4A88-8103-31EC5857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64BA-E0A0-4F4C-9E9C-0491323B9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1480" y="189000"/>
            <a:ext cx="8675640" cy="612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Бог е вели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свят е и справедлив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Той е силен и праведен Ца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Бог е велик, достоен за поч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Бог е достоен за хв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Бог е велик, издигам глас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издигам гла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Бог е велик, Бог е вели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880" y="569880"/>
            <a:ext cx="8821800" cy="5456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Бог е вели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верен и милостив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Той показа любов към н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Ти Си велик, достоен за поч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Ти Си достоен за хв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Ти Си велик, издигам глас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издигам гла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Arial"/>
                <a:ea typeface="Arial"/>
              </a:rPr>
              <a:t>Бог е велик, Бог е вели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1:03:40Z</dcterms:created>
  <dc:creator>TrifonTrifonow</dc:creator>
  <dc:description/>
  <dc:language>en-US</dc:language>
  <cp:lastModifiedBy>TrifonTrifonow</cp:lastModifiedBy>
  <dcterms:modified xsi:type="dcterms:W3CDTF">2005-09-19T11:14:16Z</dcterms:modified>
  <cp:revision>4</cp:revision>
  <dc:subject/>
  <dc:title>Slide 1</dc:title>
</cp:coreProperties>
</file>